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74EB8-04C1-470D-9DE4-2CEF8DB21CEE}"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950B-55F8-4F06-8E6F-0B04D8491B5D}"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712C-9C11-4CAD-9B51-DDAF65CB56B7}"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BC606-B684-4C19-AC96-927F5573E8AE}"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C521-C2D1-48C1-830D-8FF5FC70CCC4}"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F624E-E482-4869-A2E6-22373F7591E3}"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7C1B-1C1C-47F4-ACBE-89990CF4A455}"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8E8A-F7AB-48B7-A229-F2F45D6E73DD}"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B85E-9230-4978-A1E4-EB9506698C83}"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4E77-FE6F-49CF-B77B-2D76A725DC3E}"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98BE-BA19-465B-B461-C450F6A0EAC5}"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5812-A397-4A8E-ACA0-5B85408443D1}"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EEB9-AE13-4D0C-817E-2CBCAAFF7354}" type="slidenum">
              <a:rPr b="0" lang="en-PH"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BB8CC-724E-4091-A81B-2C9869D1B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8AD1-8D46-441B-8CB2-9CACEB0A5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8DA67-DA14-442B-9709-44EC38D14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18616-EA69-4783-B024-1DF03C643D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B4033-A827-4389-84F0-7CBE32BA9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3F43D-7A90-4AD8-96E4-FA9E2BCE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5C44A-049A-4909-B3F5-0438E5231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38112-9125-4E1C-93D8-0A887D10F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C2FB-ABB3-4ABC-905A-12BCA5D0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607E-A021-4CC9-BFED-153E13BE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08D8-D180-4DEE-A7A0-6B2A94679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920D-0D5B-439F-9D0E-DC61B69B1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F7C07-66DA-49ED-A7BB-386720F3774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Language is all of thes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How will these skills be developed?</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itical thinking skills – The children would develop critical thinking skills through the activity where in they have to imagine if they don’t have any of the parts of the bod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vity – The children would make a drawing about the vowel letters as well as the consonant letters. They would draw a big letter and identify if it is a vowel or consonant let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llaboration – The children would be grouped together and are asked to share about what their parents do for a living.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teach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be able to apply what they learned in real lif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understand on why community helpers are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stude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distinguish vowels from consonant let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memorize the 7 days of the wee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understand the importance of each lesson being discussed in cla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6" descr="10883059.png"/>
          <p:cNvPicPr/>
          <p:nvPr/>
        </p:nvPicPr>
        <p:blipFill>
          <a:blip r:embed="rId1"/>
          <a:stretch/>
        </p:blipFill>
        <p:spPr>
          <a:xfrm>
            <a:off x="0" y="3200400"/>
            <a:ext cx="4635360" cy="3276720"/>
          </a:xfrm>
          <a:prstGeom prst="rect">
            <a:avLst/>
          </a:prstGeom>
          <a:ln w="0">
            <a:noFill/>
          </a:ln>
        </p:spPr>
      </p:pic>
      <p:pic>
        <p:nvPicPr>
          <p:cNvPr id="51" name="Content Placeholder 3" descr="language-arts-reading-material.jpg"/>
          <p:cNvPicPr/>
          <p:nvPr/>
        </p:nvPicPr>
        <p:blipFill>
          <a:blip r:embed="rId2"/>
          <a:stretch/>
        </p:blipFill>
        <p:spPr>
          <a:xfrm>
            <a:off x="0" y="0"/>
            <a:ext cx="3733920" cy="2886120"/>
          </a:xfrm>
          <a:prstGeom prst="rect">
            <a:avLst/>
          </a:prstGeom>
          <a:ln w="0">
            <a:noFill/>
          </a:ln>
        </p:spPr>
      </p:pic>
      <p:pic>
        <p:nvPicPr>
          <p:cNvPr id="52" name="Picture 4" descr="comm_helper.jpg"/>
          <p:cNvPicPr/>
          <p:nvPr/>
        </p:nvPicPr>
        <p:blipFill>
          <a:blip r:embed="rId3"/>
          <a:stretch/>
        </p:blipFill>
        <p:spPr>
          <a:xfrm>
            <a:off x="4191120" y="304920"/>
            <a:ext cx="4505040" cy="2590560"/>
          </a:xfrm>
          <a:prstGeom prst="rect">
            <a:avLst/>
          </a:prstGeom>
          <a:ln w="0">
            <a:noFill/>
          </a:ln>
        </p:spPr>
      </p:pic>
      <p:pic>
        <p:nvPicPr>
          <p:cNvPr id="53" name="Picture 5" descr="picture_15_2-480x435.png"/>
          <p:cNvPicPr/>
          <p:nvPr/>
        </p:nvPicPr>
        <p:blipFill>
          <a:blip r:embed="rId4"/>
          <a:stretch/>
        </p:blipFill>
        <p:spPr>
          <a:xfrm>
            <a:off x="4800600" y="3060720"/>
            <a:ext cx="4191120" cy="379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2800" spc="-1" strike="noStrike">
                <a:solidFill>
                  <a:srgbClr val="000000"/>
                </a:solidFill>
                <a:latin typeface="Calibri"/>
              </a:rPr>
              <a:t>As Derek Walcott said, “The English language is nobody's special property.  It is the property of the imagination: it is the property of the language itself.” We don’t own the language but our imaginations own it. That’s what makes language more interes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Unit summar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unit, the teacher would create a song to be sung in class that would concern the </a:t>
            </a:r>
            <a:r>
              <a:rPr b="1" lang="en-US" sz="2200" spc="-1" strike="noStrike">
                <a:solidFill>
                  <a:srgbClr val="000000"/>
                </a:solidFill>
                <a:latin typeface="Calibri"/>
              </a:rPr>
              <a:t>7 days of the week</a:t>
            </a:r>
            <a:r>
              <a:rPr b="0" lang="en-US" sz="2200" spc="-1" strike="noStrike">
                <a:solidFill>
                  <a:srgbClr val="000000"/>
                </a:solidFill>
                <a:latin typeface="Calibri"/>
              </a:rPr>
              <a:t> to help the class be more motivated, this would also help them learn how to know what day it is. The teacher would give an activity where in students would identify the </a:t>
            </a:r>
            <a:r>
              <a:rPr b="1" lang="en-US" sz="2200" spc="-1" strike="noStrike">
                <a:solidFill>
                  <a:srgbClr val="000000"/>
                </a:solidFill>
                <a:latin typeface="Calibri"/>
              </a:rPr>
              <a:t>parts of their body, </a:t>
            </a:r>
            <a:r>
              <a:rPr b="0" lang="en-US" sz="2200" spc="-1" strike="noStrike">
                <a:solidFill>
                  <a:srgbClr val="000000"/>
                </a:solidFill>
                <a:latin typeface="Calibri"/>
              </a:rPr>
              <a:t>and then the teacher would give an activity where in the children would imagine if they don’t have any of the parts of the body to help them decode its significance. The teacher would make a power point presentation to be able to conduct a story about the </a:t>
            </a:r>
            <a:r>
              <a:rPr b="1" lang="en-US" sz="2200" spc="-1" strike="noStrike">
                <a:solidFill>
                  <a:srgbClr val="000000"/>
                </a:solidFill>
                <a:latin typeface="Calibri"/>
              </a:rPr>
              <a:t>community helpers</a:t>
            </a:r>
            <a:r>
              <a:rPr b="0" lang="en-US" sz="2200" spc="-1" strike="noStrike">
                <a:solidFill>
                  <a:srgbClr val="000000"/>
                </a:solidFill>
                <a:latin typeface="Calibri"/>
              </a:rPr>
              <a:t>, and then the teacher would group the class and let them share what their parents do for a living.  The teacher would conduct a drawing activity being done in class to recognize the </a:t>
            </a:r>
            <a:r>
              <a:rPr b="1" lang="en-US" sz="2200" spc="-1" strike="noStrike">
                <a:solidFill>
                  <a:srgbClr val="000000"/>
                </a:solidFill>
                <a:latin typeface="Calibri"/>
              </a:rPr>
              <a:t>vowels as well as consonant letters</a:t>
            </a:r>
            <a:r>
              <a:rPr b="0" lang="en-US" sz="2200" spc="-1" strike="noStrike">
                <a:solidFill>
                  <a:srgbClr val="000000"/>
                </a:solidFill>
                <a:latin typeface="Calibri"/>
              </a:rPr>
              <a:t>. The teacher would make use of pictures of different </a:t>
            </a:r>
            <a:r>
              <a:rPr b="1" lang="en-US" sz="2200" spc="-1" strike="noStrike">
                <a:solidFill>
                  <a:srgbClr val="000000"/>
                </a:solidFill>
                <a:latin typeface="Calibri"/>
              </a:rPr>
              <a:t>places in the community</a:t>
            </a:r>
            <a:r>
              <a:rPr b="0" lang="en-US" sz="2200" spc="-1" strike="noStrike">
                <a:solidFill>
                  <a:srgbClr val="000000"/>
                </a:solidFill>
                <a:latin typeface="Calibri"/>
              </a:rPr>
              <a:t> to help the children identify different places of the community. Their final project would be the culminating activity about the community help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utput</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Drawing ac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Workshe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ulminating activity-they are to memorize a one sentence and they have to dress up as one of the community hel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Assessment </a:t>
            </a:r>
            <a:endParaRPr b="0" lang="en-US" sz="4400" spc="-1" strike="noStrike">
              <a:solidFill>
                <a:srgbClr val="000000"/>
              </a:solidFill>
              <a:latin typeface="Calibri"/>
            </a:endParaRPr>
          </a:p>
        </p:txBody>
      </p:sp>
      <p:sp>
        <p:nvSpPr>
          <p:cNvPr id="61" name=""/>
          <p:cNvSpPr txBox="1"/>
          <p:nvPr/>
        </p:nvSpPr>
        <p:spPr>
          <a:xfrm>
            <a:off x="457200" y="11430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ing for prior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ing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er Feedback -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tion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write journal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ssential Question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y do we need to learn th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Unit Questio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at is a community helper?</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are the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ntent Questions</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at does a carpenter do?</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do we look for when our puppy is sick?</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Who do we look for when we our tooth is ach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bjective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identify different parts of the bod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recognize the 7 days of the week.</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know the vowels as well as the consonant letter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familiarize different places in the commun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familiarize the community helper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develop critical thinking skills – decoding significanc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develop creativity – drawing activ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Be able to collaborate with their classmates – talk about the community helpers</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21</a:t>
            </a:r>
            <a:r>
              <a:rPr b="0" lang="en-PH" sz="4400" spc="-1" strike="noStrike" baseline="30000">
                <a:solidFill>
                  <a:srgbClr val="000000"/>
                </a:solidFill>
                <a:latin typeface="Calibri"/>
              </a:rPr>
              <a:t>st</a:t>
            </a:r>
            <a:r>
              <a:rPr b="0" lang="en-PH" sz="4400" spc="-1" strike="noStrike">
                <a:solidFill>
                  <a:srgbClr val="000000"/>
                </a:solidFill>
                <a:latin typeface="Calibri"/>
              </a:rPr>
              <a:t> century skill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llabo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eativ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itical thinking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immyswirls88</dc:creator>
  <dc:description/>
  <dc:language>en-US</dc:language>
  <cp:lastModifiedBy>Jacob</cp:lastModifiedBy>
  <dcterms:modified xsi:type="dcterms:W3CDTF">2011-01-13T15:05:14Z</dcterms:modified>
  <cp:revision>4</cp:revision>
  <dc:subject/>
  <dc:title>Language is all of these</dc:title>
</cp:coreProperties>
</file>